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4645-4280-4766-BF10-7F945533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F2BB-DCB0-4E6A-88E4-5728E36F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90D-02AB-48F6-AA1F-5EF37942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F9F-7549-4679-A1C6-3A50AC3C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513-97ED-4340-9117-F5254B5B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95E-B8DA-4C88-9335-EB7C199B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7E1-ECEA-4F1D-B973-1A718C01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93F-D914-434F-9859-E34CA191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6EE1-B9B1-4850-820D-E8DCFFCF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658E-E675-45F5-ABB6-48311F3F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B5D-448E-4B90-AC1E-1E90F158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F3C-46F4-4C63-B84F-A0EDFED5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EF91-DCCB-47FB-A056-A82BD2374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e.SP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canal.jpg (20878 bytes)"/>
          <p:cNvPicPr/>
          <p:nvPr/>
        </p:nvPicPr>
        <p:blipFill>
          <a:blip r:embed="rId1"/>
          <a:stretch/>
        </p:blipFill>
        <p:spPr>
          <a:xfrm>
            <a:off x="1371600" y="380880"/>
            <a:ext cx="6324480" cy="5143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4755960" y="6583320"/>
            <a:ext cx="43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mage: http://www.mce.k12tn.net/nation_grows/lesson_1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2773440"/>
          </a:xfrm>
          <a:prstGeom prst="rect">
            <a:avLst/>
          </a:prstGeom>
          <a:solidFill>
            <a:srgbClr val="eeffcd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are writing a report about the kinds of work that people did in the early 1800s. You cannot find enough information in any of your Social Studies books. Wh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rces could you use to get information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eck all that apply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335232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riginals maps from the 1800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ooks from the libr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xt books from another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aries from a person living in the 1800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ment records from the 1800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1706400"/>
          </a:xfrm>
          <a:prstGeom prst="rect">
            <a:avLst/>
          </a:prstGeom>
          <a:solidFill>
            <a:srgbClr val="eeffcd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each of the advantages of the canal as a form of transportation at the beginning of the Industrial Revolu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3048120"/>
            <a:ext cx="9448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fficiently transported raw materia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fficiently transported manufactured go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used less pollution than automob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st less than automob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2133360"/>
          </a:xfrm>
          <a:prstGeom prst="rect">
            <a:avLst/>
          </a:prstGeom>
          <a:solidFill>
            <a:srgbClr val="eeffcd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entured servants were different from slaves because indentured servant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304812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me from the West In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re freed at the end of their te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re paid less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d much easier wor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0" descr="NAEP.jpg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7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0" y="914400"/>
            <a:ext cx="3886200" cy="2478960"/>
          </a:xfrm>
          <a:prstGeom prst="rect">
            <a:avLst/>
          </a:prstGeom>
          <a:solidFill>
            <a:srgbClr val="eeffc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 you think that many towns were located near streams and rivers like Salmon Bro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ect all that a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0160" y="3843360"/>
            <a:ext cx="5943600" cy="3019320"/>
          </a:xfrm>
          <a:prstGeom prst="rect">
            <a:avLst/>
          </a:prstGeom>
          <a:solidFill>
            <a:srgbClr val="99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vers provided a source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vers provided a sourc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vers provided a sourc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vers provided a sourc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4960" y="30492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ok at the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1:39:43Z</dcterms:created>
  <dc:creator>Magner</dc:creator>
  <dc:description/>
  <dc:language>en-US</dc:language>
  <cp:lastModifiedBy>Magner</cp:lastModifiedBy>
  <dcterms:modified xsi:type="dcterms:W3CDTF">2009-08-30T22:05:39Z</dcterms:modified>
  <cp:revision>12</cp:revision>
  <dc:subject/>
  <dc:title>Slide 1</dc:title>
</cp:coreProperties>
</file>